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5922-7449-4DAA-8EF2-C59CDFBC2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73BE-81BB-46F3-B151-113F0F9FC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4863-CC60-4419-85C5-B208699B8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5F80-B5C9-4473-9AB0-DB6DF7140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B9E7-67D4-4ED6-96D6-9E8F309D7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76CD-AB4A-4885-90EF-9D52663B2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76B9-FB29-4439-B8E1-01270A8B3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8673-0A4A-49CC-B907-4D131C6D8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AB88-9F84-44CB-91DD-D185341CB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52E6-E846-45AF-BBCA-5E101C5B4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DA25-3AE7-4F56-B951-54997A8AA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C688-AFA9-4988-BDD5-2D0FA60AD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CE321-E165-4D0A-84B1-CC9C44D594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6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75840" cy="8780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"/>
          <p:cNvPicPr/>
          <p:nvPr/>
        </p:nvPicPr>
        <p:blipFill>
          <a:blip r:embed="rId2"/>
          <a:stretch/>
        </p:blipFill>
        <p:spPr>
          <a:xfrm>
            <a:off x="2484360" y="1052640"/>
            <a:ext cx="4232520" cy="55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75840" cy="8780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3" name="عنوان 1"/>
          <p:cNvSpPr/>
          <p:nvPr/>
        </p:nvSpPr>
        <p:spPr>
          <a:xfrm>
            <a:off x="179280" y="1522440"/>
            <a:ext cx="8640720" cy="27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خضوع الكون لل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تسبيح المخلوقات لل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صيب الله بالصواعق من يشاء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صرف الدعاء لله عباد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5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ن المؤمنين يسجدون لله تعالى في أول النهار وآخر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10" descr=""/>
          <p:cNvPicPr/>
          <p:nvPr/>
        </p:nvPicPr>
        <p:blipFill>
          <a:blip r:embed="rId3"/>
          <a:stretch/>
        </p:blipFill>
        <p:spPr>
          <a:xfrm>
            <a:off x="4427640" y="765000"/>
            <a:ext cx="4533840" cy="6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75840" cy="8780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"/>
          <p:cNvPicPr/>
          <p:nvPr/>
        </p:nvPicPr>
        <p:blipFill>
          <a:blip r:embed="rId3"/>
          <a:stretch/>
        </p:blipFill>
        <p:spPr>
          <a:xfrm>
            <a:off x="179280" y="765000"/>
            <a:ext cx="8640720" cy="1194120"/>
          </a:xfrm>
          <a:prstGeom prst="rect">
            <a:avLst/>
          </a:prstGeom>
          <a:ln w="0">
            <a:noFill/>
          </a:ln>
        </p:spPr>
      </p:pic>
      <p:sp>
        <p:nvSpPr>
          <p:cNvPr id="88" name="عنوان 1"/>
          <p:cNvSpPr/>
          <p:nvPr/>
        </p:nvSpPr>
        <p:spPr>
          <a:xfrm>
            <a:off x="250920" y="2205000"/>
            <a:ext cx="86421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 الله يصيب بالصواعق من يشاء من عباد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6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75840" cy="8780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1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71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7" descr=""/>
          <p:cNvPicPr/>
          <p:nvPr/>
        </p:nvPicPr>
        <p:blipFill>
          <a:blip r:embed="rId3"/>
          <a:stretch/>
        </p:blipFill>
        <p:spPr>
          <a:xfrm>
            <a:off x="2546280" y="1557360"/>
            <a:ext cx="634860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75840" cy="878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5" name="عنوان 1"/>
          <p:cNvSpPr/>
          <p:nvPr/>
        </p:nvSpPr>
        <p:spPr>
          <a:xfrm>
            <a:off x="324000" y="5950080"/>
            <a:ext cx="856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ه لا ينتفعون بدعاء غير الله بشيء وأنه سبحانه يحبط دنياه وآخرته كمثل الذي يريد الإمساك بالماء بقبضة يده ولكن لا يستطيع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11" descr=""/>
          <p:cNvPicPr/>
          <p:nvPr/>
        </p:nvPicPr>
        <p:blipFill>
          <a:blip r:embed="rId3"/>
          <a:stretch/>
        </p:blipFill>
        <p:spPr>
          <a:xfrm>
            <a:off x="38160" y="689040"/>
            <a:ext cx="9066240" cy="863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2" descr=""/>
          <p:cNvPicPr/>
          <p:nvPr/>
        </p:nvPicPr>
        <p:blipFill>
          <a:blip r:embed="rId4"/>
          <a:stretch/>
        </p:blipFill>
        <p:spPr>
          <a:xfrm>
            <a:off x="324000" y="2781360"/>
            <a:ext cx="8583480" cy="1087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3" descr=""/>
          <p:cNvPicPr/>
          <p:nvPr/>
        </p:nvPicPr>
        <p:blipFill>
          <a:blip r:embed="rId5"/>
          <a:stretch/>
        </p:blipFill>
        <p:spPr>
          <a:xfrm>
            <a:off x="539640" y="5057640"/>
            <a:ext cx="8487000" cy="885960"/>
          </a:xfrm>
          <a:prstGeom prst="rect">
            <a:avLst/>
          </a:prstGeom>
          <a:ln w="0">
            <a:noFill/>
          </a:ln>
        </p:spPr>
      </p:pic>
      <p:sp>
        <p:nvSpPr>
          <p:cNvPr id="99" name="عنوان 1"/>
          <p:cNvSpPr/>
          <p:nvPr/>
        </p:nvSpPr>
        <p:spPr>
          <a:xfrm>
            <a:off x="250920" y="3933720"/>
            <a:ext cx="856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ها عقوبات للعصاة أو ابتلاءات للمسلمي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عنوان 1"/>
          <p:cNvSpPr/>
          <p:nvPr/>
        </p:nvSpPr>
        <p:spPr>
          <a:xfrm>
            <a:off x="324000" y="1630440"/>
            <a:ext cx="856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له تعالى هو الذي جعل البرق فيه خوف من أذاه وفيه طمع في المط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7920"/>
            <a:ext cx="913752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84"/>
          <a:stretch/>
        </p:blipFill>
        <p:spPr>
          <a:xfrm>
            <a:off x="476280" y="1844640"/>
            <a:ext cx="8191440" cy="25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307360" cy="3384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6480"/>
            <a:ext cx="9144000" cy="1118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874960" y="5013360"/>
            <a:ext cx="349236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75840" cy="8780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50920" y="1557360"/>
            <a:ext cx="8623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عد ذكر وظيفة الرسل والملائكة ذكر وظيفة الرعد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3"/>
          <a:stretch/>
        </p:blipFill>
        <p:spPr>
          <a:xfrm>
            <a:off x="5292720" y="836640"/>
            <a:ext cx="358128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-115920" y="-122400"/>
            <a:ext cx="9375840" cy="1017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"/>
          <p:cNvPicPr/>
          <p:nvPr/>
        </p:nvPicPr>
        <p:blipFill>
          <a:blip r:embed="rId3"/>
          <a:stretch/>
        </p:blipFill>
        <p:spPr>
          <a:xfrm>
            <a:off x="179280" y="981000"/>
            <a:ext cx="88488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5" descr=""/>
          <p:cNvPicPr/>
          <p:nvPr/>
        </p:nvPicPr>
        <p:blipFill>
          <a:blip r:embed="rId1"/>
          <a:stretch/>
        </p:blipFill>
        <p:spPr>
          <a:xfrm>
            <a:off x="262080" y="1776240"/>
            <a:ext cx="8631000" cy="4965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"/>
          <p:cNvPicPr/>
          <p:nvPr/>
        </p:nvPicPr>
        <p:blipFill>
          <a:blip r:embed="rId2"/>
          <a:stretch/>
        </p:blipFill>
        <p:spPr>
          <a:xfrm>
            <a:off x="0" y="763560"/>
            <a:ext cx="9144000" cy="654120"/>
          </a:xfrm>
          <a:prstGeom prst="rect">
            <a:avLst/>
          </a:prstGeom>
          <a:ln w="0">
            <a:noFill/>
          </a:ln>
        </p:spPr>
      </p:pic>
      <p:sp>
        <p:nvSpPr>
          <p:cNvPr id="56" name="عنوان 1"/>
          <p:cNvSpPr/>
          <p:nvPr/>
        </p:nvSpPr>
        <p:spPr>
          <a:xfrm>
            <a:off x="250920" y="486900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بالمط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3201840" y="836640"/>
            <a:ext cx="41785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وظيفة الرعد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179280" y="5656320"/>
            <a:ext cx="496908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ول النها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62080" y="623268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آخر النها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6" descr=""/>
          <p:cNvPicPr/>
          <p:nvPr/>
        </p:nvPicPr>
        <p:blipFill>
          <a:blip r:embed="rId3"/>
          <a:stretch/>
        </p:blipFill>
        <p:spPr>
          <a:xfrm>
            <a:off x="-115920" y="-122400"/>
            <a:ext cx="9375840" cy="8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خضوع الكون كله بما فيه من أحياء وجمادات وظواهر كونية لإرادة وتسخير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له تعالى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27160" y="1916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كل المخلوقات تسبح وتمجد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ربه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179280" y="2349360"/>
            <a:ext cx="866628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كون الله سبحانه وتعالى هو المعبود حقاً وما سواه باطل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 كل المخلوقات تسبح وتمجد ربها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27160" y="28875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صواعق والزلازل والبراكين والفيضانات كلها ظواهر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إله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7160" y="328464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صيب الله بالصواعق والزلازل والبراكين والفيضانات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 يشاء من عباد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50920" y="3716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قد تكون </a:t>
            </a: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صواعق والزلازل والبراكين والفيضانات لقوم </a:t>
            </a:r>
            <a:r>
              <a:rPr b="1" lang="en-US" sz="19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عقوبات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27160" y="4148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</a:rPr>
              <a:t>قد تكون </a:t>
            </a: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صواعق والزلازل والبراكين والفيضانات لقوم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بتلاء وتمحي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179280" y="458136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عبادات ومنها الدعاء لا تكون إلا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له عز وج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27160" y="50133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صرف شيئاً من أنواع العبادة لغير الله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فقد أشر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227160" y="541008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دعاء العبد لغير الل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نتفع به بل يحبط دنياه وآخرت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عنوان 1"/>
          <p:cNvSpPr/>
          <p:nvPr/>
        </p:nvSpPr>
        <p:spPr>
          <a:xfrm>
            <a:off x="179280" y="587700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بادة العبد لغير الل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نتفع به بل يحبط دنياه وآخرت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6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75840" cy="8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مؤمنين يسجدون لله تعالى </a:t>
            </a:r>
            <a:r>
              <a:rPr b="1" lang="en-US" sz="19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تعظيماً وخضوعاً وانقياداً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عنوان 1"/>
          <p:cNvSpPr/>
          <p:nvPr/>
        </p:nvSpPr>
        <p:spPr>
          <a:xfrm>
            <a:off x="227160" y="1916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كافرون ينقادون لقضاء الله  وقدره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كرها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75840" cy="878040"/>
          </a:xfrm>
          <a:prstGeom prst="rect">
            <a:avLst/>
          </a:prstGeom>
          <a:ln w="0">
            <a:noFill/>
          </a:ln>
        </p:spPr>
      </p:pic>
      <p:sp>
        <p:nvSpPr>
          <p:cNvPr id="78" name="عنوان 1"/>
          <p:cNvSpPr/>
          <p:nvPr/>
        </p:nvSpPr>
        <p:spPr>
          <a:xfrm>
            <a:off x="227160" y="2421000"/>
            <a:ext cx="8665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تعالى خص الغدو والآصال بالذكر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لأنه يزداد ظهور الظلال فيهما       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وأن ظلالهم تسجد في هذين الوقتين تبعاً لأجسام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25T08:42:26Z</dcterms:modified>
  <cp:revision>2060</cp:revision>
  <dc:subject/>
  <dc:title>عرض تقديمي في PowerPoint</dc:title>
</cp:coreProperties>
</file>